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5145088"/>
  <p:notesSz cx="6832600" cy="99790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32800" cy="99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70360" y="-36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9478440"/>
            <a:ext cx="296244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70360" y="9478440"/>
            <a:ext cx="2962080" cy="49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F60A-FB32-4E42-A8E1-C15B7CD8D1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8FED5-E4D0-45F5-B735-39007CB2A1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545F2-B865-4F33-9DB8-240274806D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AAC6-7D9D-480E-A575-68B6CD46849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BDE84-C008-4A4A-95F4-FEADA5D2A40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7DB9-D5F2-440D-9FF2-DF451F908B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9F25C-9B4A-4A5D-BF70-4AAE19F6A42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1F98-345A-4027-A07E-42ACC06F025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61B-CCEB-45E2-A6D1-DCFADD2E226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C954E-809E-413A-B82B-A01C7036EF5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9763-8D82-484F-9E80-5CF921243A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160" y="749160"/>
            <a:ext cx="6649920" cy="374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2560" y="4740120"/>
            <a:ext cx="5469120" cy="449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70360" y="9478800"/>
            <a:ext cx="29620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DB8D4-E4A8-4D5C-8D6F-08156583E01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467C-2187-479B-96F9-BA7FD452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69DF-4AE1-4E68-A612-2CDEDCDC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C91E-A6B6-41DB-99B7-A2D4F9D76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C9A7-418C-4772-9A2E-25ECBC03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27B8-C8A4-4E2C-92F5-AD3327A6B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0739-4B74-4B1C-BA50-E60179A9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B6ECA-5EDB-4CA8-A306-2C075E9C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AE04-76F2-4CF5-8B4D-875C4CE9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CC9A-CB12-4489-B1E4-4FCD3D58B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1DB9E-54ED-458F-9A79-7C6301EE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93CD-E877-4AEE-9A3D-95D281DC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891-C1FD-4889-BE79-B989E3C8D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EE73D-8C9A-44A6-8502-6BF22AEE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CD34D-F442-441A-B4B5-AC40A714F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5A58-08C6-4698-BBC3-B3DD445C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A10E7-21A9-45D3-AB79-6E775F70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B8EF-8755-43F9-A4CA-DD3E93417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879961-0FBD-4621-B030-507CA7740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EF016B-F8D5-463C-A5AE-8A216ADDE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65DF5-9C60-4C9B-83FE-1C482A6EF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8DE19-7815-4124-B8FE-C0CAE5D7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B5DF5-04D7-4648-BBEC-9DDDEE041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2191-4C14-40C3-A8DF-D52BBB44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B7F45-5266-4975-9DD6-0DAA49E34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0E867C-648D-4CB5-930D-7A8A1AB65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6625F-3B80-4A9A-9944-9AA4DB98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BA5FD-2085-48F2-A41A-AA8A9C8F6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433AA-2BCE-44AC-817C-ABCADCA8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DC65C-605B-4708-A862-E974772E8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B7914-080A-4B20-BA35-6A790785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2D38-C0A6-4577-A0C1-EE393FA4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070D-E205-49D1-8DB1-EAE42E253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5C8C5-3CFE-4785-BFFF-5217F8498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0F3E-A8A4-40B0-859C-135AC31A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9B85-607E-4E09-ABD1-CD37E51F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EA41-7A12-4EA9-B6B7-B1E6B6FE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8776-5AF6-4664-9788-1FEFABB2489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C3CAB-7748-483F-81A1-5002A79AFE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2F8D6-94CB-4AE4-83AF-F7F6B1387F5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3CC35-9008-4CEC-A11B-B2FD701D5B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699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26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57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198440" indent="-169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1520" indent="-1699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EC8A8-9633-489F-9CA4-5DFEEF8D7FB8}" type="datetime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D6DB-8444-4CDC-8F9A-CEA8A7577863}" type="slidenum">
              <a:rPr b="0" lang="ru-RU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Box 17"/>
          <p:cNvSpPr/>
          <p:nvPr/>
        </p:nvSpPr>
        <p:spPr>
          <a:xfrm>
            <a:off x="468360" y="1130400"/>
            <a:ext cx="8280360" cy="32630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результаты исследования компетенций учителей математики, русского языка и литера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ергей Владимирович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анченк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ководитель Центра национальных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международных исследований качества образова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едерального государственного бюджетного учреждения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Федеральный институт оценки качества образован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1"/>
          <p:cNvSpPr/>
          <p:nvPr/>
        </p:nvSpPr>
        <p:spPr>
          <a:xfrm>
            <a:off x="826920" y="1131840"/>
            <a:ext cx="7561440" cy="32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ие уровневой градации (одновременно с модернизацией профессионального стандарта педагог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витие механизмов диагностики и профессиональной помощи на основе результатов оценки, в том числе, на основе адресного повышения квалифика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едрение методик оценки психолого-педагогических компетен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1800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ственно-профессиональное об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Дальнейшие шаг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2"/>
          <p:cNvSpPr/>
          <p:nvPr/>
        </p:nvSpPr>
        <p:spPr>
          <a:xfrm>
            <a:off x="539640" y="2066760"/>
            <a:ext cx="8209080" cy="45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3192"/>
                </a:solidFill>
                <a:latin typeface="Cambria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7"/>
          <p:cNvSpPr/>
          <p:nvPr/>
        </p:nvSpPr>
        <p:spPr>
          <a:xfrm>
            <a:off x="250920" y="195120"/>
            <a:ext cx="864216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Источники информации об уровне компетенций учителей.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Федеральный урове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Скругленный прямоугольник 2"/>
          <p:cNvSpPr/>
          <p:nvPr/>
        </p:nvSpPr>
        <p:spPr>
          <a:xfrm>
            <a:off x="495144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3"/>
          <p:cNvSpPr/>
          <p:nvPr/>
        </p:nvSpPr>
        <p:spPr>
          <a:xfrm>
            <a:off x="5135400" y="2535120"/>
            <a:ext cx="199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ые сравнительны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8"/>
          <p:cNvSpPr/>
          <p:nvPr/>
        </p:nvSpPr>
        <p:spPr>
          <a:xfrm>
            <a:off x="2071800" y="250020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2451240" y="25351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И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10"/>
          <p:cNvSpPr/>
          <p:nvPr/>
        </p:nvSpPr>
        <p:spPr>
          <a:xfrm>
            <a:off x="3079800" y="3798720"/>
            <a:ext cx="237636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459240" y="383364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2"/>
          <p:cNvSpPr/>
          <p:nvPr/>
        </p:nvSpPr>
        <p:spPr>
          <a:xfrm>
            <a:off x="106380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1442880" y="1231920"/>
            <a:ext cx="169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4"/>
          <p:cNvSpPr/>
          <p:nvPr/>
        </p:nvSpPr>
        <p:spPr>
          <a:xfrm>
            <a:off x="4016520" y="1197000"/>
            <a:ext cx="237636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4395960" y="123192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Г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кругленный прямоугольник 16"/>
          <p:cNvSpPr/>
          <p:nvPr/>
        </p:nvSpPr>
        <p:spPr>
          <a:xfrm>
            <a:off x="5940360" y="3798720"/>
            <a:ext cx="237672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3"/>
          <p:cNvSpPr/>
          <p:nvPr/>
        </p:nvSpPr>
        <p:spPr>
          <a:xfrm>
            <a:off x="6105600" y="3808440"/>
            <a:ext cx="209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я компетенций учи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17"/>
          <p:cNvSpPr/>
          <p:nvPr/>
        </p:nvSpPr>
        <p:spPr>
          <a:xfrm>
            <a:off x="250920" y="195120"/>
            <a:ext cx="8642160" cy="794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Разработка модели оценки компетенций учителей. 1 эта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частии ассоциаций учителей истории, математики,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2"/>
          <p:cNvSpPr/>
          <p:nvPr/>
        </p:nvSpPr>
        <p:spPr>
          <a:xfrm>
            <a:off x="1835280" y="130824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оугольник 3"/>
          <p:cNvSpPr/>
          <p:nvPr/>
        </p:nvSpPr>
        <p:spPr>
          <a:xfrm>
            <a:off x="2214720" y="1343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российское исслед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Портрет учителя истории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2015 г., 6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5"/>
          <p:cNvSpPr/>
          <p:nvPr/>
        </p:nvSpPr>
        <p:spPr>
          <a:xfrm>
            <a:off x="1835280" y="2486160"/>
            <a:ext cx="5329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6"/>
          <p:cNvSpPr/>
          <p:nvPr/>
        </p:nvSpPr>
        <p:spPr>
          <a:xfrm>
            <a:off x="2041560" y="2521080"/>
            <a:ext cx="48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варительное исследование компетенций учителей русского языка и математики (осень 2015 г., 2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кругленный прямоугольник 7"/>
          <p:cNvSpPr/>
          <p:nvPr/>
        </p:nvSpPr>
        <p:spPr>
          <a:xfrm>
            <a:off x="1835280" y="3665520"/>
            <a:ext cx="5329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4472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8"/>
          <p:cNvSpPr/>
          <p:nvPr/>
        </p:nvSpPr>
        <p:spPr>
          <a:xfrm>
            <a:off x="2016000" y="3700440"/>
            <a:ext cx="496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следование компетенций учителей русского языка, литературы и математики (весна-осень 2016 г., 20 000 учителе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1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ценка компетенций как часть Национальной системы учительского ро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5"/>
          <p:cNvSpPr/>
          <p:nvPr/>
        </p:nvSpPr>
        <p:spPr>
          <a:xfrm>
            <a:off x="2944800" y="2316240"/>
            <a:ext cx="2930400" cy="14263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С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3"/>
          <p:cNvSpPr/>
          <p:nvPr/>
        </p:nvSpPr>
        <p:spPr>
          <a:xfrm>
            <a:off x="855720" y="1382760"/>
            <a:ext cx="2089080" cy="7117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Оценка компетен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"/>
          <p:cNvSpPr/>
          <p:nvPr/>
        </p:nvSpPr>
        <p:spPr>
          <a:xfrm>
            <a:off x="468360" y="2682720"/>
            <a:ext cx="1800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6"/>
          <p:cNvSpPr/>
          <p:nvPr/>
        </p:nvSpPr>
        <p:spPr>
          <a:xfrm>
            <a:off x="5867280" y="1190520"/>
            <a:ext cx="259236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профессиональной помощи и поддерж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7"/>
          <p:cNvSpPr/>
          <p:nvPr/>
        </p:nvSpPr>
        <p:spPr>
          <a:xfrm>
            <a:off x="6732720" y="2546280"/>
            <a:ext cx="2303280" cy="1015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витие среды профессионального общ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8"/>
          <p:cNvSpPr/>
          <p:nvPr/>
        </p:nvSpPr>
        <p:spPr>
          <a:xfrm>
            <a:off x="755640" y="4032360"/>
            <a:ext cx="2087640" cy="711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ханизмы стимул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9"/>
          <p:cNvSpPr/>
          <p:nvPr/>
        </p:nvSpPr>
        <p:spPr>
          <a:xfrm>
            <a:off x="6389640" y="4226040"/>
            <a:ext cx="1657440" cy="407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руг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Стрелка вправо 1"/>
          <p:cNvSpPr/>
          <p:nvPr/>
        </p:nvSpPr>
        <p:spPr>
          <a:xfrm>
            <a:off x="2427120" y="2827440"/>
            <a:ext cx="344520" cy="4269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Стрелка вправо 10"/>
          <p:cNvSpPr/>
          <p:nvPr/>
        </p:nvSpPr>
        <p:spPr>
          <a:xfrm rot="2952600">
            <a:off x="3095640" y="1670040"/>
            <a:ext cx="649440" cy="426960"/>
          </a:xfrm>
          <a:prstGeom prst="rightArrow">
            <a:avLst>
              <a:gd name="adj1" fmla="val 50000"/>
              <a:gd name="adj2" fmla="val 50019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трелка вправо 12"/>
          <p:cNvSpPr/>
          <p:nvPr/>
        </p:nvSpPr>
        <p:spPr>
          <a:xfrm rot="18913200">
            <a:off x="3000240" y="3889080"/>
            <a:ext cx="649440" cy="428400"/>
          </a:xfrm>
          <a:prstGeom prst="rightArrow">
            <a:avLst>
              <a:gd name="adj1" fmla="val 50000"/>
              <a:gd name="adj2" fmla="val 50041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право 13"/>
          <p:cNvSpPr/>
          <p:nvPr/>
        </p:nvSpPr>
        <p:spPr>
          <a:xfrm rot="13497000">
            <a:off x="5647680" y="373032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14"/>
          <p:cNvSpPr/>
          <p:nvPr/>
        </p:nvSpPr>
        <p:spPr>
          <a:xfrm rot="10800000">
            <a:off x="6192720" y="2833200"/>
            <a:ext cx="395280" cy="4273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трелка вправо 15"/>
          <p:cNvSpPr/>
          <p:nvPr/>
        </p:nvSpPr>
        <p:spPr>
          <a:xfrm rot="8266800">
            <a:off x="5093640" y="1660680"/>
            <a:ext cx="647640" cy="42696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ffffff"/>
          </a:solidFill>
          <a:ln w="1260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7"/>
          <p:cNvSpPr/>
          <p:nvPr/>
        </p:nvSpPr>
        <p:spPr>
          <a:xfrm>
            <a:off x="755640" y="1303200"/>
            <a:ext cx="763272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ая подготов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одика преподавания, в том числе, объективное оценивание уровня подготовки обучающихс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пробировано в 2015-2016 г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Aft>
                <a:spcPts val="24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сихолого-педагогические компетенц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анируется апробировать в 2017 г. различные формы оценки, в том числе, оценку реальной работы учителя на уроке, которая может быть реализована на уровне О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"/>
          <p:cNvSpPr/>
          <p:nvPr/>
        </p:nvSpPr>
        <p:spPr>
          <a:xfrm>
            <a:off x="620640" y="371520"/>
            <a:ext cx="8064720" cy="1008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Основные группы компетенций (в планируемой модели), </a:t>
            </a:r>
            <a:br>
              <a:rPr sz="2000"/>
            </a:b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в соответствии с Профессиональным стандартом педаг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324000" y="119160"/>
            <a:ext cx="8569080" cy="6426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e3192"/>
                </a:solidFill>
                <a:latin typeface="Cambria"/>
              </a:rPr>
              <a:t>Исследование компетенций учителей, апрель-май 2016 года. Результ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Диаграмма 1" descr=""/>
          <p:cNvPicPr/>
          <p:nvPr/>
        </p:nvPicPr>
        <p:blipFill>
          <a:blip r:embed="rId1"/>
          <a:srcRect l="0" t="0" r="-38" b="0"/>
          <a:stretch/>
        </p:blipFill>
        <p:spPr>
          <a:xfrm>
            <a:off x="0" y="858960"/>
            <a:ext cx="3995640" cy="2154240"/>
          </a:xfrm>
          <a:prstGeom prst="rect">
            <a:avLst/>
          </a:prstGeom>
          <a:ln w="0">
            <a:noFill/>
          </a:ln>
        </p:spPr>
      </p:pic>
      <p:pic>
        <p:nvPicPr>
          <p:cNvPr id="169" name="Диаграмма 1" descr=""/>
          <p:cNvPicPr/>
          <p:nvPr/>
        </p:nvPicPr>
        <p:blipFill>
          <a:blip r:embed="rId2"/>
          <a:stretch/>
        </p:blipFill>
        <p:spPr>
          <a:xfrm>
            <a:off x="4427640" y="773280"/>
            <a:ext cx="4392360" cy="2323800"/>
          </a:xfrm>
          <a:prstGeom prst="rect">
            <a:avLst/>
          </a:prstGeom>
          <a:ln w="0">
            <a:noFill/>
          </a:ln>
        </p:spPr>
      </p:pic>
      <p:pic>
        <p:nvPicPr>
          <p:cNvPr id="170" name="Диаграмма 1" descr=""/>
          <p:cNvPicPr/>
          <p:nvPr/>
        </p:nvPicPr>
        <p:blipFill>
          <a:blip r:embed="rId3"/>
          <a:srcRect l="-195" t="-4155" r="-816" b="-3377"/>
          <a:stretch/>
        </p:blipFill>
        <p:spPr>
          <a:xfrm>
            <a:off x="2195640" y="3103560"/>
            <a:ext cx="4578120" cy="189216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2"/>
          <p:cNvSpPr/>
          <p:nvPr/>
        </p:nvSpPr>
        <p:spPr>
          <a:xfrm>
            <a:off x="395280" y="5076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mbria"/>
              </a:rPr>
              <a:t>Предметная компетен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2162160" y="915840"/>
            <a:ext cx="1911240" cy="473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73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4649760" y="933480"/>
            <a:ext cx="3200400" cy="5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24,2 %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математик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е справились с задание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95640" y="99540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шите уравн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0"/>
          <p:cNvSpPr/>
          <p:nvPr/>
        </p:nvSpPr>
        <p:spPr>
          <a:xfrm>
            <a:off x="382680" y="1754280"/>
            <a:ext cx="4076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каком предложении выделенное слово пишется слитно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1"/>
          <p:cNvSpPr/>
          <p:nvPr/>
        </p:nvSpPr>
        <p:spPr>
          <a:xfrm>
            <a:off x="4643280" y="1727280"/>
            <a:ext cx="424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7,2 %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учителей русского языка выбрали вариан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Вот уже несколько минут Иван напряженно всматривался 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 даль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, надеясь разглядеть на горизонте пароходный д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2"/>
          <p:cNvSpPr/>
          <p:nvPr/>
        </p:nvSpPr>
        <p:spPr>
          <a:xfrm>
            <a:off x="439560" y="3193920"/>
            <a:ext cx="39610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ана цитата из письма: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«девушка сама неглупая предпочитает дурака умному человеку; и этот человек, разумеется, в противуречии с обществом его окружающим».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зовите произведение, о котором идет речь и его авто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3"/>
          <p:cNvSpPr/>
          <p:nvPr/>
        </p:nvSpPr>
        <p:spPr>
          <a:xfrm>
            <a:off x="4668840" y="3144960"/>
            <a:ext cx="37450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8,3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чителей литературы не узнали комедию «Горе от ума» по приведенной цитат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42920" y="1417680"/>
            <a:ext cx="6769080" cy="29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каждому из предметов значительная доля учителей показала относительно невысокие результаты выполнения стандартных учебных зада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но констатировать достаточно низкий уровень методических компетенций учителей, неумение объяснить свои действия, спланировать учебную работу в соответствии с конкретной задач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ыявлен недостаточный уровень владения приемами объективного стандартизированного оценивания результатов обучения, что может препятствовать эффективному выполнению учителями их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"/>
          <p:cNvSpPr/>
          <p:nvPr/>
        </p:nvSpPr>
        <p:spPr>
          <a:xfrm>
            <a:off x="395280" y="195120"/>
            <a:ext cx="8209080" cy="39888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б уровне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1"/>
          <p:cNvSpPr/>
          <p:nvPr/>
        </p:nvSpPr>
        <p:spPr>
          <a:xfrm>
            <a:off x="179280" y="843120"/>
            <a:ext cx="8640720" cy="40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дифференцировать уровень компетенций учителей по всем заявленным блокам, однако имеет свои ограничения: не все виды компетенций можно оценить задани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спользованные в исследовании подходы могут применяться как для оценки компетенций учителей в рамках аттестационных процедур, так и для диагностики с целью организации адресного повышения квалификации и оказания профессиональной помощи учителю на основе результатов выполнения им диагностической работ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Модель позволяет обеспечить единые для всех регионов подходы к оценке уровня квалификации учи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можно развитие апробированного подхода в направлении введения уровневой градации результатов диагностики одновременно с модернизацией профессионального стандарта педаг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обеспечить максимальную вариативность заданий, основанных на педагогических ситуациях, чтобы учитель имел возможность проявить свои компетенции в ситуации, близкой к его практической рабо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601"/>
              </a:spcAft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Целесообразно рассмотреть вопрос расширения спектра оцениваемых компетенций путем включения оценки психолого-педагогических компетенций учителя, осуществляемой, в том числе, с привлечением региональных методических объединений или на школьном уровн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2"/>
          <p:cNvSpPr/>
          <p:nvPr/>
        </p:nvSpPr>
        <p:spPr>
          <a:xfrm>
            <a:off x="395280" y="195120"/>
            <a:ext cx="8209080" cy="7038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e3192"/>
                </a:solidFill>
                <a:latin typeface="Cambria"/>
              </a:rPr>
              <a:t>Некоторые выводы о модели оценки компетенций учи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8T02:04:26Z</dcterms:created>
  <dc:creator>danilov@halfbudget.com</dc:creator>
  <dc:description/>
  <dc:language>en-US</dc:language>
  <cp:lastModifiedBy>Сергей Станченко</cp:lastModifiedBy>
  <cp:lastPrinted>2014-06-23T12:14:10Z</cp:lastPrinted>
  <dcterms:modified xsi:type="dcterms:W3CDTF">2016-10-28T08:17:18Z</dcterms:modified>
  <cp:revision>657</cp:revision>
  <dc:subject/>
  <dc:title>Презентация PowerPoint</dc:title>
</cp:coreProperties>
</file>